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28E-B749-47EB-9F37-774ECAE5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657-499B-49F7-8D91-E9B91B8D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97F-21E3-4883-B6D3-7425BF03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2D9-D8F6-4808-91F2-39E3A0A1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001-E91F-42C9-9977-9397824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109-BEF7-41B1-BE4C-CF2CD637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9EE-CAAA-436A-8DE3-4027A01E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5E5-4641-45CA-8CE0-A29F56E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54F-1437-4013-895B-55F84BAB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D56-5AB6-4463-9707-7020B50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47B-FA37-42E1-93A0-444D69D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2D5-A7B0-42F3-A6F7-161CDAE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6F11-74E7-4779-A4E5-35E533F62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admin</cp:lastModifiedBy>
  <dcterms:modified xsi:type="dcterms:W3CDTF">2024-01-31T07:42:43Z</dcterms:modified>
  <cp:revision>5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