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B79-4F1A-447A-97DC-F6F65D2A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9A0-3F51-4688-AFD4-65B234D3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461-C8C8-463D-8F2F-3359CBEE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0F5-F66B-4231-B9DF-9B094976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247-FCB7-4244-BCB5-7DFB66A5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8F9-4E36-4F46-B683-05C7976B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8E5-B3F2-431A-8DDD-EED6E669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CDD-A6FA-40C1-B56B-A9B42AAD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31F-9332-43E1-B0F1-F4C48B05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7EF-75AD-462C-AA54-CAB362F6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B8A-B1DC-4447-A6B7-FF96C83E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B30-2C8A-42DB-A93B-8A20E1A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9AAA-603E-4FAD-922E-C8FF86F95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admin</cp:lastModifiedBy>
  <dcterms:modified xsi:type="dcterms:W3CDTF">2024-01-31T07:42:43Z</dcterms:modified>
  <cp:revision>5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