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3F9-DC75-4B04-8F02-A8A29775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498-51F5-4396-A970-71535645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FB8-C350-4752-BAD7-B07A8511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390-0F0F-4C65-980C-F524A239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82C-2265-4343-9E96-5C48F750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6B2-848A-4D54-9F04-DF826AAB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A53-F54C-4842-8E9F-F6CD195C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E04-B90D-4DAD-80E4-2BF70689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A7B-EB62-4262-8CE5-8B9D5A5E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CA6-216E-4DC1-A412-696CD8C4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A7A-B48C-4471-A3C2-082DF6AC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0F6-8C89-4022-B8E1-E4DD8C57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C45F-ED70-409E-B70F-994B6E4D9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средняя общеобразовательная школа № 88 города Тю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льник из подручн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635280" y="4599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класс автор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руководител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826920" y="21420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:………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………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ать конструкцию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исать технологию изготовления в технологической к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следова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явить возможные недостатки в конструкции, сборке.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143000" y="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89080" y="642960"/>
          <a:ext cx="8640720" cy="5821200"/>
        </p:xfrm>
        <a:graphic>
          <a:graphicData uri="http://schemas.openxmlformats.org/drawingml/2006/table">
            <a:tbl>
              <a:tblPr/>
              <a:tblGrid>
                <a:gridCol w="3168360"/>
                <a:gridCol w="2376720"/>
                <a:gridCol w="30956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афическое из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зуемое оборудование и инстр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необходимые материалы для изготовления …… в соответствии с эски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71640" y="260280"/>
            <a:ext cx="684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 (изделия, результата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03:12:15Z</dcterms:created>
  <dc:creator>terry</dc:creator>
  <dc:description/>
  <dc:language>en-US</dc:language>
  <cp:lastModifiedBy>admin</cp:lastModifiedBy>
  <dcterms:modified xsi:type="dcterms:W3CDTF">2024-01-31T07:42:43Z</dcterms:modified>
  <cp:revision>5</cp:revision>
  <dc:subject/>
  <dc:title>Муниципальное автономное общеобразовательное учреждение средняя общеобразовательная школа № 88 города Тюмени</dc:title>
</cp:coreProperties>
</file>